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1E2-C92B-4812-B730-3EC2BBD0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2B4-CA4A-4EAE-A789-EBD212BF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5777-643D-487D-A420-DC9C956E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304-60C7-4CA0-AFFC-F20AA2EC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4BEA-B075-4294-B226-43260D05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A685-84B3-47CD-9FCF-BFB189D7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F633-4E66-422C-BCA3-48E3B6AC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B92F-9913-40F3-8805-A517DFDD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5201-75C6-4273-A4F3-84198B82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9673-5DCC-4A4B-956A-C3EFF75F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BD7C-50D6-46F4-922E-BFEF71A1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F26-575E-4BB7-9F98-09DCBA3D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295E-BA4A-43D7-9AC0-72D03DE3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83B7-0180-4665-A0BB-9DC24F8F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728E-42AA-46EB-BD62-C8C8014B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D8E5-BCC8-4345-9C5B-C97E0461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46EE-0926-4A2A-A9C5-6352B032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33B-0697-4720-886C-16E34D56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37A-0246-410B-92A9-DD4182B8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E03-664A-459E-9058-D27B1264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508-AFEC-4D79-8021-DE407E02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A38-FFBE-4F97-BD91-5D646C36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A33-65A1-4971-997F-A3725766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C38-DD92-4E7A-99FC-F09AAD82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5AE8-CCDF-447C-B6B3-D556B1581E3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371F-1103-4563-820A-28C822D4E49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21320" y="3562200"/>
            <a:ext cx="1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10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8120" y="1371600"/>
            <a:ext cx="3429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inting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1623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nting occurs when the blood supply to the brain is cut off for a short period of time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one who faints… loses consciousness for a period of tim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3880" y="914400"/>
            <a:ext cx="637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What causes fainting???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16002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Macintosh HD:Users:student:Desktop:78654204.mp3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f someone faints….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start laug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just stand t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run a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go out to 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start screami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pick up the vict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017880" y="199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543800" y="4038480"/>
            <a:ext cx="752400" cy="1148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019920" y="4267080"/>
            <a:ext cx="115560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1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ヒラギノ角ゴ Pro W3"/>
              </a:rPr>
              <a:t>_x0010_f someone faints..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se the victim’s leg 8 to 12 in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sen any tight clo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 the victim’s breathing, keeping his or her airway op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Macintosh HD:Users:student:Desktop:ChorusKickAddedLayers.wav" descr=""/>
          <p:cNvPicPr/>
          <p:nvPr/>
        </p:nvPicPr>
        <p:blipFill>
          <a:blip r:embed="rId2"/>
          <a:stretch/>
        </p:blipFill>
        <p:spPr>
          <a:xfrm>
            <a:off x="3962520" y="5105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86200" y="5029200"/>
            <a:ext cx="11476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60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victim does not regain consciousness… get medical hel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aware that fainting may signal a more serious condition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2327400" cy="212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819520" y="762120"/>
            <a:ext cx="3733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So now what???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Macintosh HD:Users:student:Desktop:Sound Effect - Winner 01.wav" descr=""/>
          <p:cNvPicPr/>
          <p:nvPr/>
        </p:nvPicPr>
        <p:blipFill>
          <a:blip r:embed="rId2"/>
          <a:stretch/>
        </p:blipFill>
        <p:spPr>
          <a:xfrm>
            <a:off x="304920" y="56386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133720" y="1828800"/>
            <a:ext cx="4940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ank you for watching!!!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de by Laura Noll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36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5:41Z</dcterms:created>
  <dc:creator>Kraybill Campus LMS</dc:creator>
  <dc:description/>
  <dc:language>en-US</dc:language>
  <cp:lastModifiedBy>Kraybill Campus LMS</cp:lastModifiedBy>
  <dcterms:modified xsi:type="dcterms:W3CDTF">2011-05-25T16:02:19Z</dcterms:modified>
  <cp:revision>4</cp:revision>
  <dc:subject/>
  <dc:title>PowerPoint Presentation</dc:title>
</cp:coreProperties>
</file>